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46095"/>
        <c:axId val="12962421"/>
      </c:barChart>
      <c:catAx>
        <c:axId val="88446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62421"/>
        <c:crosses val="autoZero"/>
        <c:auto val="1"/>
        <c:lblAlgn val="ctr"/>
        <c:lblOffset val="100"/>
        <c:noMultiLvlLbl val="0"/>
      </c:catAx>
      <c:valAx>
        <c:axId val="12962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6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14B-8578-4D22-9018-91A2076E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E1B-497B-40BB-B8CE-C0198471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4A0-9586-4754-B926-BBCB2DB1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133-A4C2-48BD-BDB2-62E05FA4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B88-77F3-4EA5-BA15-0145B02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FC4-1AD7-4572-9E20-B34A659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5C7-BE55-4589-A130-2915C55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5AF-248C-4825-B02C-EC80DA2F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3EA-A3E1-4310-B85E-690CA5B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965-7EF0-4E19-BC6A-FE5E0BB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70E-8EC9-4E6C-B038-7B22B3F3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2F3-B6B7-4FEF-BED0-3A469520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557F-ABFA-4D8B-A6A5-881A445A4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